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5F49-DB9C-422D-B4D8-75CC4AFE0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B5E1-1B5A-471B-8606-B7926267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3C6C-E4AD-429B-A261-242B6CCDD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66E8-581B-41DA-891B-588790C8F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64ED-CCF7-4FD8-A15D-B73A4819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3831-F2A2-4E97-B806-A78657FC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361A-F297-4C5A-A4C3-E96A227C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59E7-BDDF-4701-AE63-A140449A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AA74-CE95-49C9-8187-37915614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E5D3-BFF7-4369-9FEB-6C7806AC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64A2-5381-4374-B5B9-668F7166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F464-724E-4107-8766-23C40FFC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3CE8-50D6-4E53-8667-6614DA549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images.google.com/imgres?imgurl=http://www.chessbase.com/news/2007/yekaterinburg02.jpg&amp;imgrefurl=http://www.chessbase.com/newsdetail.asp%3Fnewsid%3D3875&amp;usg=__tMxX0FLrE1SvCcVGQGs7HmdjrfM=&amp;h=315&amp;w=450&amp;sz=47&amp;hl=en&amp;start=12&amp;um=1&amp;tbnid=oi8tCofvBsQPDM:&amp;tbnh=89&amp;tbnw=127&amp;prev=/images%3Fq%3Dyekaterinburg%26um%3D1%26hl%3Den%26safe%3Dactive%26rls%3DIBMA,IBMA:2006-28,IBMA:en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-Siberian Railroad Exped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hlyn, Sabrina, Kate, Daniel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3514680" cy="392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495680" y="1168560"/>
            <a:ext cx="4017960" cy="2687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14400" y="4800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ta Mos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38862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133720" y="762120"/>
            <a:ext cx="4410000" cy="5205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90920" y="60958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ursky Boulevard in Khabarov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717720" cy="4952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00" y="52578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di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52880" y="41911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 Kholodilnik in Vladivost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924680" cy="4929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752480" y="59436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 Expedition Route from Moscow to Vladivost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888840"/>
            <a:ext cx="7619760" cy="5080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71600" y="624852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696080" cy="5772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905120" y="6324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 Cabin in the T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315200" cy="5121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0" y="60958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al Mount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3429000" cy="4647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76920" y="2438280"/>
            <a:ext cx="3809880" cy="2670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9480" y="594360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katerinburg Cathed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51814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katerinburg The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238880" cy="4960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0" y="59436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sk Building on Lyubinsky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4343400" cy="3265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114800" y="2971800"/>
            <a:ext cx="4724280" cy="3522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36576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vosibirsk Drama Theater at N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220968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vosibirsk Theater at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5334120" cy="4000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638680" y="838080"/>
            <a:ext cx="3353040" cy="1833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715000" y="3581280"/>
            <a:ext cx="3219480" cy="2427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172200" y="2666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aslag Vict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50292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asnoyar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43600" y="60199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electric Dam in Krasnoyar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3733920" cy="3624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419720" y="380880"/>
            <a:ext cx="4190760" cy="4038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57200" y="22096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ke Bai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29200" y="449568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44956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kut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8:33:45Z</dcterms:created>
  <dc:creator>daniellelioce</dc:creator>
  <dc:description/>
  <dc:language>en-US</dc:language>
  <cp:lastModifiedBy>daniellelioce</cp:lastModifiedBy>
  <dcterms:modified xsi:type="dcterms:W3CDTF">2008-11-25T19:03:45Z</dcterms:modified>
  <cp:revision>11</cp:revision>
  <dc:subject/>
  <dc:title>Trans-Siberian Railroad Expedition</dc:title>
</cp:coreProperties>
</file>